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AA47-F0AD-43F6-879E-77AEDB4E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F10-2E47-4930-BBA0-71271806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5BB1-F122-4D82-B2BB-C39346BB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ADB5-D70D-4589-9C9A-F13E56D5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0819-A206-454D-982E-6CC2A841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5BF4-9F8E-4442-8507-042E42B1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0E85-4954-48D5-85C7-EBDCFC8A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45BF-9AF1-482F-B56F-A60E73BF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D2B8-6237-48BA-B96C-9EF4A925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6A05-A2B3-4671-BA39-1C4DFF2A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1B52-B1F1-4D17-9BD7-7A81FB97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25D1-A17E-4C7A-AFD2-209003BF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D140-F80E-4D64-9768-12751EA0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1975-2235-4558-ABF1-B88A6BEE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719A-BA04-4AB9-B2F0-AD1F4250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344D-07F2-4FC9-8C05-4192F9DE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81BD-B89E-49ED-8D2F-D225E10B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E887-5D2F-45AE-99BA-490A5902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B27-30E0-4F0E-8162-774C9889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5E3D-F925-4AA2-8F07-E52412F3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B93B-D318-4577-A65B-741232C0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7AD-415F-42CB-8C93-E5D867D0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E031-5707-4135-AE19-632EEF93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2C7-662F-4828-9D71-EEEB6040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5A39-D6F2-48EE-8B97-C4F1037672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9870-065D-41E3-A148-2DCD83E71B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Дорожные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ситуации – «ловушки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41008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понижения вним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46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дороге, окруженной жилыми домами, зеленью,  редко проезжает транспорт, и создается ложное пред-ставление об отсутствии угр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водителей тоже притуп-ляется внимание, и они едут быстрее обычного, не предполагая появления пе-шеход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е дороги часто стано-вятся любимым местом роллеров, скейтбордистов, а также для различных игр, катания на санках и конь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514600"/>
            <a:ext cx="79250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70224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Ловушки”, подстерегающие возле до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льзя выбегать, не осмотревшись, из-за стоящего транспорта. Если возле дома стоит автомобиль, необходимо помнить, что он может поехать вперед, не подав сигнал, или, что опаснее, – задним ход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собенно опасны грузовики-фургоны, такси и автомобили скорой помощи. Водителям грузовиков трудно наблюдать и замечать пешеходов. Такси и “скорая помощь” часто спеш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езды у домов часто становятся местом для иг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297180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середины доро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шеход, находящийся между потоками движу-щихся автомобилей, сильно испуган и его поведение хаотично и не поддается логике и прогноз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зор могут закрывать стоящие рядом пеше-ходы. От большого ко-личества мелькающих рядом автомашин может закружиться голова, и пешеход потеряет равновес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45026" t="28519" r="3031" b="9096"/>
          <a:stretch/>
        </p:blipFill>
        <p:spPr>
          <a:xfrm>
            <a:off x="5562720" y="1752480"/>
            <a:ext cx="2938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при движении вдоль проезжей част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702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эту ситуацию пешеход может попасть, если идет по дороге в нарушение правил дорожного движения, то есть по ходу движения транспортных средств. В этом случае движение автомобилей происходит со спины, и пешеход не видит опасность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втомобиль на скользкой дороге может вильнуть, или груз выступает за борта – все это грозит пешеходу травм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Опасные дорожные ситуации – дорожные “ловушки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95% дорожно-транспортных происшествий с детьми случаются примерно в 30 повторяющихся дорожных ситуациях – “ловушках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Дорожная ловушка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это ситуация на дороге со скрытой  опасностью, к тому же незамеченно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закрытого обзор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Это дорожные ситуации, когда опасность скрыта от пешехода за кустами, деревьями, забором, сугробом, стоящими и движущимися автомобилями, другими пешеходами. Обзору дороги могут мешать повороты, спуски и подъемы самой дорог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3581280" cy="2276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05520" y="1523880"/>
            <a:ext cx="358128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в зоне остановки маршрутного транспор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548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зоне остановки в ДТП попадает  треть пострадав-ших детей, в ос-новном из-за стоя-щих маршрутных транспортных средств – большой помехи обзору на дороге и спешки пешеходов или пассажир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981" r="13762" b="0"/>
          <a:stretch/>
        </p:blipFill>
        <p:spPr>
          <a:xfrm>
            <a:off x="4038480" y="213372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260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СТАНОВКА ЭТО ВАЖНАЯ ЧАСТЬ ДО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4211640" cy="3054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48040" y="2349360"/>
            <a:ext cx="4395960" cy="3024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03280" y="5530320"/>
            <a:ext cx="7534440" cy="101556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остановке никогда нельзя стоять у кромки тротуара. Тебя нечаянно могут толкнуть, и ты окажешься под коле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371628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6920" y="335772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95280" y="4941720"/>
            <a:ext cx="917640" cy="1700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850320"/>
            <a:ext cx="821232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дать автобус, троллейбус или трамвай нужно только на остановках – местах, обозначенных такими знаками, как на рисунках. А там, где их нет– на тротуаре. В сельской местности, если нет оборудованной остановки, автобус ждут на обочине 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на пешеходном перехо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бычно думают, что пешеходный переход – это безопасная зона, на которой с пешеходом ничего не может случиться. А ведь и здесь остановившийся автомобиль может скрывать движущийся, равно как и проехавш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2095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792680" y="3941640"/>
            <a:ext cx="38941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на углу перекрест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Опасность на углу перекрестка состоит в том, что автотранспорт может поворачивать направо, при этом и водителю, и пешеходу горит зеленый сигнал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Иногда задние колеса автобусов, грузовиков, прицепов оказываются очень близко к тротуару, бывает неопытный водитель выезжает на “бровку” тротуара, к тому же автотранспорт может быть с прицепом или буксировать другой автомоби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0400" y="2544840"/>
            <a:ext cx="3927240" cy="26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у светоф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31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У светофора, нельзя забывать, что на дороге могут возникнуть самые непредвиденные обстоятельства, например, поедут на красный сигнал спецавтомашины (скорая помощь, милиция, пожарная); могут быть и водители, нарушающие ПДД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редко и сами пешеходы, как взрослые, так и дети, переходят дорогу на красный сигнал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895480"/>
            <a:ext cx="79250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8769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отвлечения вни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5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ешеход не замечает опасность, потому что его взгляд прико-ван к интересую-щему его предмету – автобус на другой стороне дороги, при-ятель, мяч, собака, луж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 дорожным “ловуш-кам” могут привести и еще два изобрете-ния – плеер и мобильный телефон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5202"/>
          <a:stretch/>
        </p:blipFill>
        <p:spPr>
          <a:xfrm>
            <a:off x="4876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19171" t="2190" r="5766" b="0"/>
          <a:stretch/>
        </p:blipFill>
        <p:spPr>
          <a:xfrm>
            <a:off x="4876920" y="1676520"/>
            <a:ext cx="3593880" cy="213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22T13:29:4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